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2779-5FDD-4475-965E-10EA897D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CBF-9358-49B8-88AA-70F6B15B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28A-CA0C-494A-941F-09DDBDC7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5A1-195A-4D9C-916F-375E95F5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8104-E688-4601-9021-8CF6C6CC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FA8-069E-4FF3-A139-F9DAE635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8CD-146F-477E-BBBB-AD793947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3F6-4D39-4689-9949-0B97964D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B17-6FFC-43BF-B341-D56E135D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06A-304D-4B57-B78C-26E5928B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73E-A490-491E-A07A-7566060A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61B-500E-46F9-9626-AEED273F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4C86-9E1F-4801-B52A-9242F7E11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cole d’Infirmière de la ville de Mas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8288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’ét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3526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fin d’études de l’année 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HM00173_" descr=""/>
          <p:cNvPicPr/>
          <p:nvPr/>
        </p:nvPicPr>
        <p:blipFill>
          <a:blip r:embed="rId2"/>
          <a:stretch/>
        </p:blipFill>
        <p:spPr>
          <a:xfrm>
            <a:off x="7315200" y="2590920"/>
            <a:ext cx="156996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BD07834_" descr=""/>
          <p:cNvPicPr/>
          <p:nvPr/>
        </p:nvPicPr>
        <p:blipFill>
          <a:blip r:embed="rId3"/>
          <a:stretch/>
        </p:blipFill>
        <p:spPr>
          <a:xfrm>
            <a:off x="0" y="2590920"/>
            <a:ext cx="2104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05Z</dcterms:modified>
  <cp:revision>4</cp:revision>
  <dc:subject/>
  <dc:title>Présentation PowerPoint</dc:title>
</cp:coreProperties>
</file>